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58D5B-FA6A-4BF7-B550-AC53A955D4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7C542-C059-4F87-9BB2-D43842BAAC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C1670-A080-43CC-817B-AC515B0A28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257A1-A0BE-4E06-ACE3-EEA4B3198D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A4256-7150-4A23-9091-DADFAC46D1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20D17-F907-44C4-A2C0-20D24A657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294FE-C66E-4A89-823D-28E1457E1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A9676-3A86-4C5E-93C4-A307FD4DE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DFE17-FFE3-474E-9218-3B415DEBF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53B26-DE33-4EB1-8A36-33C7CB56A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49958-4965-41CE-860C-12FA43D12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A3B90-7427-445C-8F8A-0ABCBAAB1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4E0FD-8F11-4448-B0EE-CE2805801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3E7B3-499E-4A06-8B22-AD2B458DD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F8B1F-C4D0-496B-A98C-70D0BB865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CEF56-66CC-4FDA-9EF0-511DCD43A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0896E-DFBD-45DA-A575-F3EBDC006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243AD-92B8-490A-B6E0-9AED54403D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ets.tlt.psu.edu/learningdesign/audience/howpeoplelearn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3"/>
          <p:cNvSpPr/>
          <p:nvPr/>
        </p:nvSpPr>
        <p:spPr>
          <a:xfrm>
            <a:off x="533520" y="228600"/>
            <a:ext cx="8229600" cy="53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roject and Problem  Based Lear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egins with an “ill-structured” problem  (the scenari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just enough information to entice students but not guide th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interesting to the student to capture their atten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be age appropriate and scaffold for suc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be curriculum and standards ba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udent always need more information that what is initially pres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re is no right or wrong ways to study a problem. The process sometimes depend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n the problem itsel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problem and the direction may change as information is collect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re are no right or wrong solutions only good and poor choic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Box 3"/>
          <p:cNvSpPr/>
          <p:nvPr/>
        </p:nvSpPr>
        <p:spPr>
          <a:xfrm>
            <a:off x="533520" y="533520"/>
            <a:ext cx="8229600" cy="56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roject and Problem Based Lear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apitalizes on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Student Interest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ing real-world problems (start loca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t is a “process” approach rather than a “content”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udents acquire knowledge by using processes such as exploration, research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llabo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oject and problem based learning have many similariti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udent learn to formulate problem statement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develop action pl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conduct information search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use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find and apply re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work collaboratively with others both within the school and outside the sch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arrive at conclusions and communicate finding to others (shared knowledge)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Box 3"/>
          <p:cNvSpPr/>
          <p:nvPr/>
        </p:nvSpPr>
        <p:spPr>
          <a:xfrm>
            <a:off x="533520" y="533520"/>
            <a:ext cx="8229600" cy="56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roject and Problem Based Lear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an be used successfully by students as early as 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grade (inquiry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s student centered and teacher facilitated. Students take the lead in planning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irecting, tacking and completing their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elps students connect new information  to concepts they already kn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s often used as an engagement tool connecting  relevance to content and oth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ki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s standards based, but not all of the standards may be completely known at fir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teacher must be willing to work with a degree of vagueness and uncertain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llows for student learning beyond the walls of the classroo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grates web 2.0 technologies  and 21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alibri"/>
              </a:rPr>
              <a:t>st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century ski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Box 1"/>
          <p:cNvSpPr/>
          <p:nvPr/>
        </p:nvSpPr>
        <p:spPr>
          <a:xfrm>
            <a:off x="304920" y="457200"/>
            <a:ext cx="784836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scoll (2002) proposes the following principles for how people lear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arning occurs in context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Learning must happen within certain context. Without an appropriate setting, learning is unlikely to succe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arning is active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"Tell me, I forget. Show me, I remember. Involve me, I understand." This Chinese proverb suggests that learners have to be mentally active during learning activities, make connections between the new knowledge and existing knowledge, and construct meaning from their own experienc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arning is social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Learners benefit from working collaboratively in groups so that they can hear different perspectives and accomplish the learning tasks with the help of their peers and exper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arning is reflective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arning is facilitated when learners are given chances to express and evaluate on their own think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nn State Learning Design Community Hu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://ets.tlt.psu.edu/learningdesign/audience/howpeoplelear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7T11:12:54Z</dcterms:created>
  <dc:creator> </dc:creator>
  <dc:description/>
  <dc:language>en-US</dc:language>
  <cp:lastModifiedBy> </cp:lastModifiedBy>
  <dcterms:modified xsi:type="dcterms:W3CDTF">2011-04-27T15:18:36Z</dcterms:modified>
  <cp:revision>66</cp:revision>
  <dc:subject/>
  <dc:title>Slide 1</dc:title>
</cp:coreProperties>
</file>